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DDDFF-E587-4464-B9FB-785A2D436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391B1-211B-48E3-9446-95C1A46E613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A0FBD-9D9D-4B30-9A4A-7E751F6B033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36192-299F-41E5-BDAB-7DDA146E58C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A56AD-6360-4570-8C7D-932FC755013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2E0E6-9A70-4125-9BC6-6A58F1913E5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A43E1-0598-4F03-8BC8-6B91056F08D7}"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2FA29-5A57-4998-AC27-EFD1610A8EB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FCA6A-59FC-4768-9444-59A29A71C39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04698-C63E-444C-B113-7FB9D5A836B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42564-524C-49A2-AEC4-AB21C47F985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28CDA-D31C-42B0-A811-730CA0C0B75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82813-EF32-438D-89B3-8AC9DB15517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3C4D5-E1A6-4B4A-A862-B8C4B9F6057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32"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8D7A8251-8F8A-4E01-A985-98F3FC12C8D1}"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3FC99-D7C4-4FBB-9981-FB8E9465BC5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011F2-97DA-4C03-804C-981AD2FC15A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69A00-9443-432D-AD67-7C48AF5F51E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5FF69-4A32-47B9-8C0C-A154E40FB17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6240" y="687240"/>
            <a:ext cx="4570200" cy="342756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A7C4B4-5396-4BB4-AC97-53C8E8E709C1}"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7217F-8EA8-4000-BEEC-7A9CC682BA6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D3ECC-2EC2-4493-9CD1-8BC57881959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AD0BE-94EA-4AE8-B0B9-86F46A2CADE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1653D-ED33-494A-9865-ECCE98F3457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7E1A8-1B8D-4EC3-BC18-BA07C365BE0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3D362-F5E3-4747-8A14-F1A82116AF8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9EDB7-B431-459B-BC63-501F3D288CD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85592-3DC1-4233-B743-74F3B3D9551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8A4F3-5F03-4BED-B070-EB5172BC5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D15C5-DA97-4C12-9B00-BD3E2E26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EDA61-4DB5-44CB-B96A-3FAA279E7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37F01-3CD8-464E-B066-5C426F5C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9821E-67A0-45DD-943F-78A065169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91920-741E-497A-89B9-6334C228A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A699F-68DD-41A5-B1E0-D44E963F4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00CBD-62B9-4085-9828-1CB863592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EA742-6DA1-4EED-A9DE-FFC067B17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4B3E-EC03-41A9-AEE8-E6CEA5754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3FA48-47FD-4026-A82B-0C786F98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45DE-A7D9-49AC-8A34-FDD4C807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0C4C2-1E27-4139-B410-20F92C93C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065C0-88ED-42A1-9A53-2D7BA33A6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2B930-93D3-46B1-BB1E-B10699F97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DA2BE-CD73-4FBB-AE97-57FC2CA5E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EFEA4-5CB2-479A-9C6C-3B913A979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8796-EB14-4DBE-A6E3-EF8DAC31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5DE5-6DB4-40E1-8892-E0AE20E6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D18A-6C9B-4813-87B3-C60D0004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E806-4B35-4FAF-9396-05B3F3C9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B0A4-53A0-42FE-A1B6-E93DB53E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3646-0D71-4461-B729-0E47B23A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F4AC-5783-480A-9642-338C8C95C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4BE3F-8EF7-440D-B611-D7B0560DA5CE}"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3557F-CD1C-4F29-89ED-C2E62C5E4CE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24400" y="1420920"/>
            <a:ext cx="3819600" cy="24415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0" y="1420560"/>
            <a:ext cx="540216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CA" sz="2800" spc="-1" strike="noStrike">
                <a:solidFill>
                  <a:srgbClr val="0d469b"/>
                </a:solidFill>
                <a:latin typeface="Arial"/>
              </a:rPr>
              <a:t>5 Core Capacities</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CA" sz="2800" spc="-1" strike="noStrike">
                <a:solidFill>
                  <a:srgbClr val="0d469b"/>
                </a:solidFill>
                <a:latin typeface="Arial"/>
              </a:rPr>
              <a:t>Core Leadership Capacity</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fade" transition="in">
                                      <p:cBhvr additive="repl">
                                        <p:cTn id="7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marL="34308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5440320" y="321948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0"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5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52" name="Group 6"/>
          <p:cNvGrpSpPr/>
          <p:nvPr/>
        </p:nvGrpSpPr>
        <p:grpSpPr>
          <a:xfrm>
            <a:off x="681120" y="3862440"/>
            <a:ext cx="7994520" cy="2442960"/>
            <a:chOff x="681120" y="3862440"/>
            <a:chExt cx="7994520" cy="2442960"/>
          </a:xfrm>
        </p:grpSpPr>
        <p:grpSp>
          <p:nvGrpSpPr>
            <p:cNvPr id="153" name="Group 7"/>
            <p:cNvGrpSpPr/>
            <p:nvPr/>
          </p:nvGrpSpPr>
          <p:grpSpPr>
            <a:xfrm>
              <a:off x="3621960" y="4062240"/>
              <a:ext cx="3663360" cy="2185560"/>
              <a:chOff x="3621960" y="4062240"/>
              <a:chExt cx="3663360" cy="2185560"/>
            </a:xfrm>
          </p:grpSpPr>
          <p:sp>
            <p:nvSpPr>
              <p:cNvPr id="154"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5"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6"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7"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58"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59"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0"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1"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6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64" name="Picture 9" descr=""/>
          <p:cNvPicPr/>
          <p:nvPr/>
        </p:nvPicPr>
        <p:blipFill>
          <a:blip r:embed="rId1"/>
          <a:stretch/>
        </p:blipFill>
        <p:spPr>
          <a:xfrm>
            <a:off x="281160" y="1968480"/>
            <a:ext cx="2786040" cy="2195640"/>
          </a:xfrm>
          <a:prstGeom prst="rect">
            <a:avLst/>
          </a:prstGeom>
          <a:ln w="0">
            <a:noFill/>
          </a:ln>
        </p:spPr>
      </p:pic>
      <p:sp>
        <p:nvSpPr>
          <p:cNvPr id="16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6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6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2A585-4067-4C18-A387-872467185113}"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6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6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7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168"/>
                                        </p:tgtEl>
                                      </p:cBhvr>
                                    </p:animEffect>
                                    <p:set>
                                      <p:cBhvr>
                                        <p:cTn id="81" dur="1" fill="hold">
                                          <p:stCondLst>
                                            <p:cond delay="1999"/>
                                          </p:stCondLst>
                                        </p:cTn>
                                        <p:tgtEl>
                                          <p:spTgt spid="168"/>
                                        </p:tgtEl>
                                        <p:attrNameLst>
                                          <p:attrName>style.visibility</p:attrName>
                                        </p:attrNameLst>
                                      </p:cBhvr>
                                      <p:to>
                                        <p:strVal val="hidden"/>
                                      </p:to>
                                    </p:set>
                                  </p:childTnLst>
                                </p:cTn>
                              </p:par>
                              <p:par>
                                <p:cTn id="82" nodeType="withEffect" fill="hold" presetClass="entr" presetID="10">
                                  <p:stCondLst>
                                    <p:cond delay="0"/>
                                  </p:stCondLst>
                                  <p:childTnLst>
                                    <p:set>
                                      <p:cBhvr>
                                        <p:cTn id="83" dur="1" fill="hold">
                                          <p:stCondLst>
                                            <p:cond delay="0"/>
                                          </p:stCondLst>
                                        </p:cTn>
                                        <p:tgtEl>
                                          <p:spTgt spid="169"/>
                                        </p:tgtEl>
                                        <p:attrNameLst>
                                          <p:attrName>style.visibility</p:attrName>
                                        </p:attrNameLst>
                                      </p:cBhvr>
                                      <p:to>
                                        <p:strVal val="visible"/>
                                      </p:to>
                                    </p:set>
                                    <p:animEffect filter="fade" transition="in">
                                      <p:cBhvr additive="repl">
                                        <p:cTn id="84" dur="2000"/>
                                        <p:tgtEl>
                                          <p:spTgt spid="169"/>
                                        </p:tgtEl>
                                      </p:cBhvr>
                                    </p:animEffect>
                                  </p:childTnLst>
                                </p:cTn>
                              </p:par>
                              <p:par>
                                <p:cTn id="85" nodeType="withEffect" fill="hold" presetClass="entr" presetID="10">
                                  <p:stCondLst>
                                    <p:cond delay="0"/>
                                  </p:stCondLst>
                                  <p:childTnLst>
                                    <p:set>
                                      <p:cBhvr>
                                        <p:cTn id="86" dur="1" fill="hold">
                                          <p:stCondLst>
                                            <p:cond delay="0"/>
                                          </p:stCondLst>
                                        </p:cTn>
                                        <p:tgtEl>
                                          <p:spTgt spid="170"/>
                                        </p:tgtEl>
                                        <p:attrNameLst>
                                          <p:attrName>style.visibility</p:attrName>
                                        </p:attrNameLst>
                                      </p:cBhvr>
                                      <p:to>
                                        <p:strVal val="visible"/>
                                      </p:to>
                                    </p:set>
                                    <p:animEffect filter="fade" transition="in">
                                      <p:cBhvr additive="repl">
                                        <p:cTn id="8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7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3" name="Picture 9" descr=""/>
          <p:cNvPicPr/>
          <p:nvPr/>
        </p:nvPicPr>
        <p:blipFill>
          <a:blip r:embed="rId1"/>
          <a:stretch/>
        </p:blipFill>
        <p:spPr>
          <a:xfrm>
            <a:off x="5810400" y="3657600"/>
            <a:ext cx="2322360" cy="1859040"/>
          </a:xfrm>
          <a:prstGeom prst="rect">
            <a:avLst/>
          </a:prstGeom>
          <a:ln w="0">
            <a:noFill/>
          </a:ln>
        </p:spPr>
      </p:pic>
      <p:sp>
        <p:nvSpPr>
          <p:cNvPr id="17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rap-Up</a:t>
            </a:r>
            <a:endParaRPr b="0" lang="en-US" sz="3200" spc="-1" strike="noStrike">
              <a:solidFill>
                <a:srgbClr val="3b587a"/>
              </a:solidFill>
              <a:latin typeface="Arial"/>
            </a:endParaRPr>
          </a:p>
        </p:txBody>
      </p:sp>
      <p:sp>
        <p:nvSpPr>
          <p:cNvPr id="17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your web, record responses to:</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a:p>
            <a:pPr marL="343080" indent="-34308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losing</a:t>
            </a:r>
            <a:endParaRPr b="0" lang="en-US" sz="3200" spc="-1" strike="noStrike">
              <a:solidFill>
                <a:srgbClr val="3b587a"/>
              </a:solidFill>
              <a:latin typeface="Arial"/>
            </a:endParaRPr>
          </a:p>
        </p:txBody>
      </p:sp>
      <p:sp>
        <p:nvSpPr>
          <p:cNvPr id="17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5 Core Capacities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0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0" name="Picture 2" descr=""/>
          <p:cNvPicPr/>
          <p:nvPr/>
        </p:nvPicPr>
        <p:blipFill>
          <a:blip r:embed="rId1"/>
          <a:stretch/>
        </p:blipFill>
        <p:spPr>
          <a:xfrm>
            <a:off x="957240" y="949320"/>
            <a:ext cx="7230960" cy="4406760"/>
          </a:xfrm>
          <a:prstGeom prst="rect">
            <a:avLst/>
          </a:prstGeom>
          <a:ln w="0">
            <a:noFill/>
          </a:ln>
        </p:spPr>
      </p:pic>
      <p:pic>
        <p:nvPicPr>
          <p:cNvPr id="111" name="Picture 3" descr=""/>
          <p:cNvPicPr/>
          <p:nvPr/>
        </p:nvPicPr>
        <p:blipFill>
          <a:blip r:embed="rId2"/>
          <a:stretch/>
        </p:blipFill>
        <p:spPr>
          <a:xfrm>
            <a:off x="433440" y="1305000"/>
            <a:ext cx="8324640" cy="2616120"/>
          </a:xfrm>
          <a:prstGeom prst="rect">
            <a:avLst/>
          </a:prstGeom>
          <a:ln w="0">
            <a:noFill/>
          </a:ln>
        </p:spPr>
      </p:pic>
      <p:sp>
        <p:nvSpPr>
          <p:cNvPr id="112" name="TextBox 5"/>
          <p:cNvSpPr/>
          <p:nvPr/>
        </p:nvSpPr>
        <p:spPr>
          <a:xfrm>
            <a:off x="2587680" y="5356080"/>
            <a:ext cx="609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From Ontario Public School Board Association  http://www.opsba.or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1-30T03:31:00Z</dcterms:modified>
  <cp:revision>47</cp:revision>
  <dc:subject/>
  <dc:title>PLMLC Leadership Series  Thunder Bay Region Day 1</dc:title>
</cp:coreProperties>
</file>